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12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5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5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BD081-3801-42A9-BFDD-52AD533C72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003-2A8A-457F-BA04-EFE661CD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B76-3373-4366-9DE0-FD17ED71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93A-81F7-4419-A8BF-F31DF8D1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DE4-495B-414A-8FD8-37A4E195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CF9-4740-4738-814D-EE4F072F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BBD-CF6B-4A4F-9C86-F4740C9E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3E8-EFD8-48EE-8AAE-5CABEE6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2DF-BF89-431B-BBD2-1B53F22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B12-B18E-4758-96C6-66F93F0D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8A8-1CA0-445A-8304-B0A363C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707-D7DF-46E1-9DE2-0267E68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19E-99EF-4702-834A-79A288E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B4ABB-FEE4-4F0E-AE13-BF1652255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im.ucdavis.edu/eyerelease/interface/topframe.htm" TargetMode="External"/><Relationship Id="rId2" Type="http://schemas.openxmlformats.org/officeDocument/2006/relationships/hyperlink" Target="http://cim.ucdavis.edu/eyerelease/interface/topframe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36560" y="22860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ew Sitzm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nielle Paulozz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uel Lin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753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7840" y="731880"/>
            <a:ext cx="74678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27468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30480" y="655560"/>
            <a:ext cx="655308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01880" y="884160"/>
            <a:ext cx="7086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there be spontaneous recovery from the sympto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the symptoms spread to the opposite side in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01880" y="884160"/>
            <a:ext cx="7086600" cy="626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19836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6856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02920" y="2636640"/>
            <a:ext cx="906948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an H. Ropper, Robert H. Brown. Adams and Victor's Principles of Neurology, 8th Edition 2005. Chapter 26. Disorders of the Autonomic Nervous System, Respiration, and Swallo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 Birinyi, Thomas F. Mauger.  Atlas of Emergency Medicine, 2nd Edition,2002. Chapter 2. Ophthalmologic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tomy.med.umich.edu/surface/head_neck/neck_triangl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5560" y="351000"/>
            <a:ext cx="792468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16280" y="1341360"/>
            <a:ext cx="708660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im.ucdavis.edu/eyerelease/interface/topframe.h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892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Anatomy and Principles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pporting Signs and Symptoms of th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0640" y="503280"/>
            <a:ext cx="86108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49240" y="351000"/>
            <a:ext cx="754380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426960"/>
            <a:ext cx="8305920" cy="70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753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5720" y="2636640"/>
            <a:ext cx="906444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d 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auloz</cp:lastModifiedBy>
  <dcterms:modified xsi:type="dcterms:W3CDTF">2008-02-26T17:25:51Z</dcterms:modified>
  <cp:revision>3</cp:revision>
  <dc:subject/>
  <dc:title>Slide 1</dc:title>
</cp:coreProperties>
</file>